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0707-E44B-40F3-B750-6116CCCFBD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867B-3CF8-4D83-BD9D-044307FDA4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01F3-E40C-4044-B347-03310BD32E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A567-7A2E-44E1-BB3E-F49B7F73AF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B9D-6BB3-465A-9CAF-D9A4FE9C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06C-0EF0-4159-9355-0583B041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12F5-94E9-49F0-81A4-15C137C7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7EA-322E-44DB-A32F-41EEE489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0C26-1471-49D6-B3E6-02AAA8FC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8CAE-0431-408B-810B-0ED13A54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B3A8-E816-4C8E-8C09-9358AF6E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0B94-7E71-4424-AB25-80AF67F5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7484-3C1C-4E9B-B79B-A68802B0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D01C-B61F-4DB8-861A-E685543B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E909-189F-4D8F-BA7B-43095CE1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F4C-E63B-4617-B63D-868DA9FD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87D6-0B39-46AD-B8DC-54F54F8F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9C97-2FFE-4966-9BDE-E14CE426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C4E0-B164-4344-98E2-2DB1A3AF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C50E-D60A-44C6-A0BB-2D6F335E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6D8C-DA64-41AA-B4FA-6952E995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9E443-11C0-48B1-81EF-71F888ED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E627E-9DF4-4660-B808-70CF7CE8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644A3-49DB-4552-9789-EF0ACCDE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63D65-7DE8-4DD6-9260-4604D854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D064C-E285-4730-9D7F-C2AE122A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11E0-4980-4638-87A5-2EB084CC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F4EC42-7BE3-4B48-9708-38826331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6AB15-CC48-4F4F-B983-55F753E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AD4BA-82FC-4237-98A5-A4714AB3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08AC0-A5CB-4278-9AEF-9E1D1593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0BB4C-B01F-4190-B117-1090EFE1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CA2E5-9EC5-4D4D-8929-546C1D28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C50A7-1FD2-4AEB-AF08-D733F817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D14B2-28C3-48AF-88B4-9DF07767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06271-FDD2-4F6D-A6FD-32322621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30D35-1450-4427-AAFA-F5303E3A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7C0-C52C-4900-92DB-78972491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4A025-D798-470A-BBB4-8A5B006B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07F65-D9D5-4A30-9CBD-69B899A3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9CEB-26DE-4BD9-AF23-E0640027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9F559-C4F8-4F3A-94DE-520707EE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56B44-3FAF-4B40-9BE8-FACFF236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83CFC-D015-40B9-BB56-338A104F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027B8-25E4-4BE4-B37D-95B1F6F2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7500B-71E9-49B0-A2E4-830E0060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CB1C2-6742-429C-A7E9-024827E2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1DB-37D1-405F-BFD5-66C0F977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ACE-5FA3-4F63-B25F-8363896E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480-24F4-4D2A-921C-13D6DC12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336-FB36-415C-B296-FDEF42CC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ED0-C563-4E32-9869-B277927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ttango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ttango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ttango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ttango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tangolo arrotondat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ttangolo arrotondat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ttango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ttango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ttango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ttango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ttango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ttango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E48-4A1F-4A54-B5F0-72ED4B405C07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tangolo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ttangolo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ttangolo arrotondato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ttangolo arrotondato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ttangolo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ttangolo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ttangolo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BBCC-BFB7-46D4-82EC-DF18C6A8AA45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ttango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ttango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arrotondat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arrotondat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ttango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ttango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ttango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tango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9672-1968-417C-A8AF-D51837BC7993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ttangolo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ttangolo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ttangolo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ttangolo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ttangolo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ttangolo arrotondato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tangolo arrotondato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ttangolo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ttangolo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ttangolo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ttangolo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ttangolo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04AD-1826-4FA9-AEA2-FD2C08975CA0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5680" y="4000680"/>
            <a:ext cx="54864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Comic Sans MS"/>
              </a:rPr>
              <a:t>Scuola dell’infanzia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040"/>
                </a:solidFill>
                <a:latin typeface="Comic Sans MS"/>
              </a:rPr>
              <a:t>“</a:t>
            </a:r>
            <a:r>
              <a:rPr b="1" lang="it-IT" sz="2400" spc="-1" strike="noStrike">
                <a:solidFill>
                  <a:srgbClr val="404040"/>
                </a:solidFill>
                <a:latin typeface="Comic Sans MS"/>
              </a:rPr>
              <a:t>Pier della Francesca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omic Sans MS"/>
              </a:rPr>
              <a:t>D.D Empoli 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omic Sans MS"/>
              </a:rPr>
              <a:t>Sez .B ( 5  anni )  a.s. 2019/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Comic Sans MS"/>
              </a:rPr>
              <a:t>            </a:t>
            </a:r>
            <a:r>
              <a:rPr b="0" lang="it-IT" sz="2400" spc="-1" strike="noStrike">
                <a:solidFill>
                  <a:srgbClr val="404040"/>
                </a:solidFill>
                <a:latin typeface="Comic Sans MS"/>
              </a:rPr>
              <a:t>Ins:   Domenici Nadi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Rettangolo 3" descr=""/>
          <p:cNvPicPr/>
          <p:nvPr/>
        </p:nvPicPr>
        <p:blipFill>
          <a:blip r:embed="rId1"/>
          <a:stretch/>
        </p:blipFill>
        <p:spPr>
          <a:xfrm>
            <a:off x="469800" y="268200"/>
            <a:ext cx="8204400" cy="13654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CORSO FORMAZIONE AMBITO 8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«  ARTE E DISEGNI NELLA SCUOLA DELL’INFANZIA»</a:t>
            </a:r>
            <a:endParaRPr b="0" lang="en-US" sz="1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4" name="Picture 8" descr="Risultato immagine per mandala delle stagioni"/>
          <p:cNvPicPr/>
          <p:nvPr/>
        </p:nvPicPr>
        <p:blipFill>
          <a:blip r:embed="rId2"/>
          <a:stretch/>
        </p:blipFill>
        <p:spPr>
          <a:xfrm>
            <a:off x="5435640" y="4130640"/>
            <a:ext cx="347328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Infine l’estate…</a:t>
            </a:r>
            <a:br>
              <a:rPr sz="4000"/>
            </a:br>
            <a:r>
              <a:rPr b="0" lang="it-IT" sz="2400" spc="-1" strike="noStrike">
                <a:solidFill>
                  <a:srgbClr val="04617b"/>
                </a:solidFill>
                <a:latin typeface="Comic Sans MS"/>
              </a:rPr>
              <a:t>dipinta con caldi colori</a:t>
            </a: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54" name="Immagine 2" descr=""/>
          <p:cNvPicPr/>
          <p:nvPr/>
        </p:nvPicPr>
        <p:blipFill>
          <a:blip r:embed="rId1"/>
          <a:stretch/>
        </p:blipFill>
        <p:spPr>
          <a:xfrm>
            <a:off x="5724360" y="3130560"/>
            <a:ext cx="2592720" cy="2455920"/>
          </a:xfrm>
          <a:prstGeom prst="rect">
            <a:avLst/>
          </a:prstGeom>
          <a:ln w="0">
            <a:noFill/>
          </a:ln>
        </p:spPr>
      </p:pic>
      <p:pic>
        <p:nvPicPr>
          <p:cNvPr id="255" name="Segnaposto contenuto 8" descr=""/>
          <p:cNvPicPr/>
          <p:nvPr/>
        </p:nvPicPr>
        <p:blipFill>
          <a:blip r:embed="rId2"/>
          <a:stretch/>
        </p:blipFill>
        <p:spPr>
          <a:xfrm>
            <a:off x="774720" y="2251080"/>
            <a:ext cx="3198960" cy="1589040"/>
          </a:xfrm>
          <a:prstGeom prst="rect">
            <a:avLst/>
          </a:prstGeom>
          <a:ln w="0">
            <a:noFill/>
          </a:ln>
        </p:spPr>
      </p:pic>
      <p:pic>
        <p:nvPicPr>
          <p:cNvPr id="256" name="Immagine 10" descr=""/>
          <p:cNvPicPr/>
          <p:nvPr/>
        </p:nvPicPr>
        <p:blipFill>
          <a:blip r:embed="rId3"/>
          <a:stretch/>
        </p:blipFill>
        <p:spPr>
          <a:xfrm>
            <a:off x="826920" y="4606920"/>
            <a:ext cx="34182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34100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ticipiamo un poco questa stagione rispetto al calendario….ma non possiamo fare altrimenti….le temperatura sono alte , il giardino è rigoglioso ma i colori sono già cambiati…basta osservare l’erba che ha perduto il suo verde brillan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ccoci a scegliere ed osservare il dipinto di VAN GOG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che in questa occasione bambin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egnano le spighe ed il sole, poi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pletano il lavoro : attaccano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gnetti sui raggi del sole, le  cannucce si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formano in  spighe,  il sale gross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lorato con la tempera diventa il prato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CasellaDiTesto 2"/>
          <p:cNvSpPr/>
          <p:nvPr/>
        </p:nvSpPr>
        <p:spPr>
          <a:xfrm>
            <a:off x="1295280" y="63324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000"/>
                </a:solidFill>
                <a:latin typeface="Comic Sans MS"/>
              </a:rPr>
              <a:t>E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Immagine 2" descr=""/>
          <p:cNvPicPr/>
          <p:nvPr/>
        </p:nvPicPr>
        <p:blipFill>
          <a:blip r:embed="rId1"/>
          <a:stretch/>
        </p:blipFill>
        <p:spPr>
          <a:xfrm>
            <a:off x="826920" y="3063960"/>
            <a:ext cx="25927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CasellaDiTesto 6"/>
          <p:cNvSpPr/>
          <p:nvPr/>
        </p:nvSpPr>
        <p:spPr>
          <a:xfrm>
            <a:off x="900000" y="2637000"/>
            <a:ext cx="784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nostro progetto si è concl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bambini si sono avvicinati all’arte e sono riusciti a riprodurre quadri famosi utilizzando materiali di varia na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…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esta esperienza ha voluto insinuare in loro l’idea di poter creare opere senza necessariamente rimanere ancorati alle tecniche usuali…..pensando in modo diverg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00000" y="888840"/>
            <a:ext cx="7842240" cy="1067040"/>
          </a:xfrm>
          <a:prstGeom prst="rect">
            <a:avLst/>
          </a:prstGeom>
          <a:solidFill>
            <a:srgbClr val="b0dfa1"/>
          </a:solidFill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CONCLUSIONI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62" name="Immagine 3" descr=""/>
          <p:cNvPicPr/>
          <p:nvPr/>
        </p:nvPicPr>
        <p:blipFill>
          <a:blip r:embed="rId1"/>
          <a:stretch/>
        </p:blipFill>
        <p:spPr>
          <a:xfrm>
            <a:off x="611280" y="4724280"/>
            <a:ext cx="8130960" cy="1800360"/>
          </a:xfrm>
          <a:prstGeom prst="rect">
            <a:avLst/>
          </a:prstGeom>
          <a:ln w="0">
            <a:noFill/>
          </a:ln>
        </p:spPr>
      </p:pic>
      <p:pic>
        <p:nvPicPr>
          <p:cNvPr id="263" name="Immagine 5" descr=""/>
          <p:cNvPicPr/>
          <p:nvPr/>
        </p:nvPicPr>
        <p:blipFill>
          <a:blip r:embed="rId2"/>
          <a:stretch/>
        </p:blipFill>
        <p:spPr>
          <a:xfrm>
            <a:off x="763560" y="4876920"/>
            <a:ext cx="8131320" cy="1800000"/>
          </a:xfrm>
          <a:prstGeom prst="rect">
            <a:avLst/>
          </a:prstGeom>
          <a:ln w="0">
            <a:noFill/>
          </a:ln>
        </p:spPr>
      </p:pic>
      <p:pic>
        <p:nvPicPr>
          <p:cNvPr id="264" name="Immagine 6" descr=""/>
          <p:cNvPicPr/>
          <p:nvPr/>
        </p:nvPicPr>
        <p:blipFill>
          <a:blip r:embed="rId3"/>
          <a:stretch/>
        </p:blipFill>
        <p:spPr>
          <a:xfrm>
            <a:off x="900000" y="885960"/>
            <a:ext cx="1270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2209320"/>
            <a:ext cx="8229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esto progetto è stato ideato per sviluppare e potenziare  il pensiero divergente nei bambini della nostra sezio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efigge lo scopo di osservare e vivere le differenze sostanziali delle quattro stagioni, guardando la natura attraverso gli occhi degli artisti e dando vita a copie delle loro opere, lasciando spazio alla fantasia ed alla creatività, utilizzando non le tecniche tradizionali, ma materiali di varia natur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4617b"/>
                </a:solidFill>
                <a:latin typeface="Comic Sans MS"/>
              </a:rPr>
              <a:t>Finalità del progetto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7" name="Immagine 4" descr=""/>
          <p:cNvPicPr/>
          <p:nvPr/>
        </p:nvPicPr>
        <p:blipFill>
          <a:blip r:embed="rId1"/>
          <a:stretch/>
        </p:blipFill>
        <p:spPr>
          <a:xfrm>
            <a:off x="485640" y="911160"/>
            <a:ext cx="2016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CasellaDiTesto 11"/>
          <p:cNvSpPr/>
          <p:nvPr/>
        </p:nvSpPr>
        <p:spPr>
          <a:xfrm>
            <a:off x="611280" y="3141720"/>
            <a:ext cx="8075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ovendo analizzare le differenze tra le quattro stagio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rogetto si articola su tutto l’anno scola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bambini osservano i cambiamenti naturali del giardino della scuola, osservano alcuni dipinti per ogni stagione e realizzano i loro lav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6000" y="355680"/>
            <a:ext cx="61200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Trebuchet MS"/>
              </a:rPr>
              <a:t>Durata del progett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0" name="Picture 5" descr="Risultato immagine per OROLOGIO PER BAMBINI DISEGNO"/>
          <p:cNvPicPr/>
          <p:nvPr/>
        </p:nvPicPr>
        <p:blipFill>
          <a:blip r:embed="rId1"/>
          <a:stretch/>
        </p:blipFill>
        <p:spPr>
          <a:xfrm>
            <a:off x="3860640" y="1557360"/>
            <a:ext cx="14227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L’autunno nell’arte….</a:t>
            </a:r>
            <a:br>
              <a:rPr sz="4000"/>
            </a:br>
            <a:r>
              <a:rPr b="0" lang="it-IT" sz="3200" spc="-1" strike="noStrike">
                <a:solidFill>
                  <a:srgbClr val="04617b"/>
                </a:solidFill>
                <a:latin typeface="Comic Sans MS"/>
              </a:rPr>
              <a:t>Questi i quadri presentati ai bambini…</a:t>
            </a:r>
            <a:endParaRPr b="0" lang="en-US" sz="32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2" name="Segnaposto contenuto 4" descr=""/>
          <p:cNvPicPr/>
          <p:nvPr/>
        </p:nvPicPr>
        <p:blipFill>
          <a:blip r:embed="rId1"/>
          <a:stretch/>
        </p:blipFill>
        <p:spPr>
          <a:xfrm>
            <a:off x="457200" y="3746520"/>
            <a:ext cx="2463840" cy="1805040"/>
          </a:xfrm>
          <a:prstGeom prst="rect">
            <a:avLst/>
          </a:prstGeom>
          <a:ln w="0">
            <a:noFill/>
          </a:ln>
        </p:spPr>
      </p:pic>
      <p:pic>
        <p:nvPicPr>
          <p:cNvPr id="233" name="Immagine 6" descr=""/>
          <p:cNvPicPr/>
          <p:nvPr/>
        </p:nvPicPr>
        <p:blipFill>
          <a:blip r:embed="rId2"/>
          <a:stretch/>
        </p:blipFill>
        <p:spPr>
          <a:xfrm>
            <a:off x="6027840" y="3732120"/>
            <a:ext cx="2444760" cy="1805040"/>
          </a:xfrm>
          <a:prstGeom prst="rect">
            <a:avLst/>
          </a:prstGeom>
          <a:ln w="0">
            <a:noFill/>
          </a:ln>
        </p:spPr>
      </p:pic>
      <p:pic>
        <p:nvPicPr>
          <p:cNvPr id="234" name="Immagine 5" descr="Visualizza immagine di origine"/>
          <p:cNvPicPr/>
          <p:nvPr/>
        </p:nvPicPr>
        <p:blipFill>
          <a:blip r:embed="rId3"/>
          <a:stretch/>
        </p:blipFill>
        <p:spPr>
          <a:xfrm>
            <a:off x="3355920" y="3860640"/>
            <a:ext cx="2236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00000"/>
                </a:solidFill>
                <a:latin typeface="Comic Sans MS"/>
              </a:rPr>
              <a:t>AUTUNNO</a:t>
            </a: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6" name="Rettangolo 5"/>
          <p:cNvSpPr/>
          <p:nvPr/>
        </p:nvSpPr>
        <p:spPr>
          <a:xfrm>
            <a:off x="4416120" y="3244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 il mese di ottobre, iniziamo ad osservare il nostro giardino, che presenta i primi segni caratteristici dell’autunn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sezione osserviamo alcuni quadri dove i colori  dell’autunno sono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olto  definiti: i bambini hann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elto di riprodurre questo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aver fatto realizzare il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segno dell’albero sul pra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gniamo ai bambini i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ottoni colorati per completar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loro quadro personale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Immagine 5" descr="Visualizza immagine di origine"/>
          <p:cNvPicPr/>
          <p:nvPr/>
        </p:nvPicPr>
        <p:blipFill>
          <a:blip r:embed="rId1"/>
          <a:stretch/>
        </p:blipFill>
        <p:spPr>
          <a:xfrm>
            <a:off x="1814400" y="3244680"/>
            <a:ext cx="261324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L’inverno : </a:t>
            </a:r>
            <a:br>
              <a:rPr sz="4000"/>
            </a:br>
            <a:r>
              <a:rPr b="0" lang="it-IT" sz="2800" spc="-1" strike="noStrike">
                <a:solidFill>
                  <a:srgbClr val="04617b"/>
                </a:solidFill>
                <a:latin typeface="Comic Sans MS"/>
              </a:rPr>
              <a:t>queste le opere presentate……</a:t>
            </a:r>
            <a:endParaRPr b="0" lang="en-US" sz="28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0" name="Segnaposto contenuto 4" descr=""/>
          <p:cNvPicPr/>
          <p:nvPr/>
        </p:nvPicPr>
        <p:blipFill>
          <a:blip r:embed="rId1"/>
          <a:stretch/>
        </p:blipFill>
        <p:spPr>
          <a:xfrm>
            <a:off x="755640" y="2644920"/>
            <a:ext cx="2838600" cy="1990440"/>
          </a:xfrm>
          <a:prstGeom prst="rect">
            <a:avLst/>
          </a:prstGeom>
          <a:ln w="0">
            <a:noFill/>
          </a:ln>
        </p:spPr>
      </p:pic>
      <p:pic>
        <p:nvPicPr>
          <p:cNvPr id="241" name="Immagine 6" descr=""/>
          <p:cNvPicPr/>
          <p:nvPr/>
        </p:nvPicPr>
        <p:blipFill>
          <a:blip r:embed="rId2"/>
          <a:stretch/>
        </p:blipFill>
        <p:spPr>
          <a:xfrm>
            <a:off x="3581280" y="4648320"/>
            <a:ext cx="2847960" cy="1885680"/>
          </a:xfrm>
          <a:prstGeom prst="rect">
            <a:avLst/>
          </a:prstGeom>
          <a:ln w="0">
            <a:noFill/>
          </a:ln>
        </p:spPr>
      </p:pic>
      <p:pic>
        <p:nvPicPr>
          <p:cNvPr id="242" name="Immagine 6" descr="Visualizza immagine di origine"/>
          <p:cNvPicPr/>
          <p:nvPr/>
        </p:nvPicPr>
        <p:blipFill>
          <a:blip r:embed="rId3"/>
          <a:stretch/>
        </p:blipFill>
        <p:spPr>
          <a:xfrm>
            <a:off x="6300720" y="2658960"/>
            <a:ext cx="264960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88760" y="692280"/>
            <a:ext cx="569124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INVERN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16280"/>
            <a:ext cx="8291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il periodo natalizio, affrontiamo la stagione invernale e anche in questa occasione , dopo le dovute considerazioni sui cambiamenti visibili nel giardino , i bambini  scelgono un quadro di MUNC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giardino non c’è neve ma molti di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ro hanno trascorso le vacanze i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ontagna e tutti sono volati, c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fantasia , al polo da Babb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atale .La neve quindi è l’elemen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vernale per eccellenza…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aver tracciato il loro disegn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 l’aiuto di tempera e schiuma d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arba , i bambini hanno dipinto i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ro quadro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Immagine 6" descr="Visualizza immagine di origine"/>
          <p:cNvPicPr/>
          <p:nvPr/>
        </p:nvPicPr>
        <p:blipFill>
          <a:blip r:embed="rId1"/>
          <a:stretch/>
        </p:blipFill>
        <p:spPr>
          <a:xfrm>
            <a:off x="684360" y="2976480"/>
            <a:ext cx="36064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4617b"/>
                </a:solidFill>
                <a:latin typeface="Comic Sans MS"/>
              </a:rPr>
              <a:t>La primavera:</a:t>
            </a:r>
            <a:br>
              <a:rPr sz="4000"/>
            </a:br>
            <a:r>
              <a:rPr b="0" lang="it-IT" sz="2400" spc="-1" strike="noStrike">
                <a:solidFill>
                  <a:srgbClr val="04617b"/>
                </a:solidFill>
                <a:latin typeface="Comic Sans MS"/>
              </a:rPr>
              <a:t>alcuni quadri presentati ai bambini</a:t>
            </a:r>
            <a:endParaRPr b="0" lang="en-US" sz="24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47" name="Segnaposto contenuto 4" descr=""/>
          <p:cNvPicPr/>
          <p:nvPr/>
        </p:nvPicPr>
        <p:blipFill>
          <a:blip r:embed="rId1"/>
          <a:stretch/>
        </p:blipFill>
        <p:spPr>
          <a:xfrm>
            <a:off x="6227640" y="4648320"/>
            <a:ext cx="2600280" cy="1923840"/>
          </a:xfrm>
          <a:prstGeom prst="rect">
            <a:avLst/>
          </a:prstGeom>
          <a:ln w="0">
            <a:noFill/>
          </a:ln>
        </p:spPr>
      </p:pic>
      <p:pic>
        <p:nvPicPr>
          <p:cNvPr id="248" name="Immagine 4" descr="Risultato immagine per LEONNE CHRISTIE  PRIMAVERA"/>
          <p:cNvPicPr/>
          <p:nvPr/>
        </p:nvPicPr>
        <p:blipFill>
          <a:blip r:embed="rId2"/>
          <a:stretch/>
        </p:blipFill>
        <p:spPr>
          <a:xfrm>
            <a:off x="250920" y="2481120"/>
            <a:ext cx="2881080" cy="1863720"/>
          </a:xfrm>
          <a:prstGeom prst="rect">
            <a:avLst/>
          </a:prstGeom>
          <a:ln w="0">
            <a:noFill/>
          </a:ln>
        </p:spPr>
      </p:pic>
      <p:pic>
        <p:nvPicPr>
          <p:cNvPr id="249" name="Immagine 7" descr=""/>
          <p:cNvPicPr/>
          <p:nvPr/>
        </p:nvPicPr>
        <p:blipFill>
          <a:blip r:embed="rId3"/>
          <a:stretch/>
        </p:blipFill>
        <p:spPr>
          <a:xfrm>
            <a:off x="3333600" y="3933720"/>
            <a:ext cx="24768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it-IT" sz="4000" spc="-1" strike="noStrike">
                <a:solidFill>
                  <a:srgbClr val="00b050"/>
                </a:solidFill>
                <a:latin typeface="Comic Sans MS"/>
              </a:rPr>
              <a:t>PRIMAVER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esta è la stagione dove tutto si rinnova e gli alberi del giardino si rivestono di foglie e fiori, il prato si colora di margherite…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questa occasione i bambini scelgono di dipingere questo quadro    utilizzando gli acquerelli  per realizzare il cielo ed il prato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 seguito hanno aggiunt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fiori utilizzando tappi di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lastica e palline di pasta di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ale preparate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cedentement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Immagine 4" descr="Risultato immagine per LEONNE CHRISTIE  PRIMAVERA"/>
          <p:cNvPicPr/>
          <p:nvPr/>
        </p:nvPicPr>
        <p:blipFill>
          <a:blip r:embed="rId1"/>
          <a:stretch/>
        </p:blipFill>
        <p:spPr>
          <a:xfrm>
            <a:off x="755640" y="3645000"/>
            <a:ext cx="41734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3T10:31:20Z</dcterms:created>
  <dc:creator>utente</dc:creator>
  <dc:description/>
  <dc:language>en-US</dc:language>
  <cp:lastModifiedBy>Admin</cp:lastModifiedBy>
  <dcterms:modified xsi:type="dcterms:W3CDTF">2019-10-02T18:20:12Z</dcterms:modified>
  <cp:revision>73</cp:revision>
  <dc:subject/>
  <dc:title>La matematica nel quotidiano</dc:title>
</cp:coreProperties>
</file>